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5.wmf" ContentType="image/x-wmf"/>
  <Override PartName="/ppt/media/image3.png" ContentType="image/png"/>
  <Override PartName="/ppt/media/image26.png" ContentType="image/png"/>
  <Override PartName="/ppt/media/image27.png" ContentType="image/png"/>
  <Override PartName="/ppt/media/image25.jpeg" ContentType="image/jpeg"/>
  <Override PartName="/ppt/media/image24.png" ContentType="image/png"/>
  <Override PartName="/ppt/media/image2.wmf" ContentType="image/x-wmf"/>
  <Override PartName="/ppt/media/image23.jpeg" ContentType="image/jpeg"/>
  <Override PartName="/ppt/media/image19.jpeg" ContentType="image/jpeg"/>
  <Override PartName="/ppt/media/image4.wmf" ContentType="image/x-wmf"/>
  <Override PartName="/ppt/media/image22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9D6-2218-4C3B-A0F0-58E57375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CE0-610F-40B7-8593-FB154925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90E-BC02-474B-B24A-0068BA14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58C3-3E12-4D2A-8759-47867EED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1268-BD5B-48D5-BB0E-44DA17EA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0E1F-3E02-432B-AE0F-A73545C8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438F-E22B-4ACB-9CAB-AF45F36C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3940-4FF6-48C9-AEEC-A4D134AE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FFA9-1A37-4245-97D0-E116EC90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91CD-EA6C-43CF-913B-CAA21FB2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D05D-39DE-4AF5-BAEC-8C2474D7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0AE-7D39-4651-808F-F54649A3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A851-4078-4F8F-B681-19821BAC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1A4D-FA5F-47C7-9F1A-B4E7ED03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D88D-FE45-4AA5-B544-315C6FE2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F5B8-41B4-42BA-91F6-D314E489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7AF8-150F-459B-88F6-A6A448CF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A4F-F100-4CAA-93C6-4728853A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C34-31C3-4F97-9AB0-7B618C80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98C-AC3E-48C4-AE45-85341BF2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FAF-F11A-45B7-B496-5EAEC1D4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E20-F2AC-47DA-9F09-2ACC2456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90FD-4250-4F39-BB33-9689524A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FFF-A19B-4BC2-9F62-F20924B2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sp>
          <p:nvSpPr>
            <p:cNvPr id="1" name=""/>
            <p:cNvSpPr/>
            <p:nvPr/>
          </p:nvSpPr>
          <p:spPr>
            <a:xfrm>
              <a:off x="380880" y="304920"/>
              <a:ext cx="8382240" cy="617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7944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0" y="0"/>
                  </a:moveTo>
                  <a:lnTo>
                    <a:pt x="144" y="144"/>
                  </a:lnTo>
                  <a:lnTo>
                    <a:pt x="144" y="3744"/>
                  </a:lnTo>
                  <a:lnTo>
                    <a:pt x="0" y="3888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9440" y="303120"/>
              <a:ext cx="8383680" cy="23040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0" y="0"/>
                  </a:moveTo>
                  <a:lnTo>
                    <a:pt x="144" y="144"/>
                  </a:lnTo>
                  <a:lnTo>
                    <a:pt x="5136" y="144"/>
                  </a:lnTo>
                  <a:lnTo>
                    <a:pt x="5280" y="0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3596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144" y="0"/>
                  </a:moveTo>
                  <a:lnTo>
                    <a:pt x="0" y="144"/>
                  </a:lnTo>
                  <a:lnTo>
                    <a:pt x="0" y="3744"/>
                  </a:lnTo>
                  <a:lnTo>
                    <a:pt x="144" y="3888"/>
                  </a:lnTo>
                  <a:lnTo>
                    <a:pt x="14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6248520"/>
              <a:ext cx="8383680" cy="23004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5280" y="144"/>
                  </a:moveTo>
                  <a:lnTo>
                    <a:pt x="5136" y="0"/>
                  </a:lnTo>
                  <a:lnTo>
                    <a:pt x="144" y="0"/>
                  </a:lnTo>
                  <a:lnTo>
                    <a:pt x="0" y="144"/>
                  </a:lnTo>
                  <a:lnTo>
                    <a:pt x="5280" y="144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8250-C945-4869-844B-D7B4EC0B4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grpSp>
          <p:nvGrpSpPr>
            <p:cNvPr id="50" name=""/>
            <p:cNvGrpSpPr/>
            <p:nvPr/>
          </p:nvGrpSpPr>
          <p:grpSpPr>
            <a:xfrm>
              <a:off x="379440" y="303120"/>
              <a:ext cx="8386560" cy="6175440"/>
              <a:chOff x="379440" y="303120"/>
              <a:chExt cx="8386560" cy="6175440"/>
            </a:xfrm>
          </p:grpSpPr>
          <p:sp>
            <p:nvSpPr>
              <p:cNvPr id="51" name=""/>
              <p:cNvSpPr/>
              <p:nvPr/>
            </p:nvSpPr>
            <p:spPr>
              <a:xfrm>
                <a:off x="380880" y="304920"/>
                <a:ext cx="8382240" cy="6172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944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0" y="0"/>
                    </a:moveTo>
                    <a:lnTo>
                      <a:pt x="144" y="144"/>
                    </a:lnTo>
                    <a:lnTo>
                      <a:pt x="144" y="3744"/>
                    </a:lnTo>
                    <a:lnTo>
                      <a:pt x="0" y="38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9440" y="303120"/>
                <a:ext cx="8383680" cy="23040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0" y="0"/>
                    </a:moveTo>
                    <a:lnTo>
                      <a:pt x="144" y="144"/>
                    </a:lnTo>
                    <a:lnTo>
                      <a:pt x="5136" y="144"/>
                    </a:lnTo>
                    <a:lnTo>
                      <a:pt x="528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53596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144" y="0"/>
                    </a:moveTo>
                    <a:lnTo>
                      <a:pt x="0" y="144"/>
                    </a:lnTo>
                    <a:lnTo>
                      <a:pt x="0" y="3744"/>
                    </a:lnTo>
                    <a:lnTo>
                      <a:pt x="144" y="388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0880" y="6248520"/>
                <a:ext cx="8383680" cy="23004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5280" y="144"/>
                    </a:moveTo>
                    <a:lnTo>
                      <a:pt x="5136" y="0"/>
                    </a:lnTo>
                    <a:lnTo>
                      <a:pt x="144" y="0"/>
                    </a:lnTo>
                    <a:lnTo>
                      <a:pt x="0" y="144"/>
                    </a:lnTo>
                    <a:lnTo>
                      <a:pt x="5280" y="144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2423-B312-45CA-8835-0F0D37E1D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Great Depression Begi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an Studies – Chapters 30-3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hort Term Effects 1929-3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nk Fail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1933, 6000 banks closed (25% of all bank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 million individual savings accounts 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ufacturing output cut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,000 businesses went bankru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29 – 3% of eligible workers unemplo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33 – 25% of eligible workers unemplo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aining workers take reduced pay and h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mpacts – Urban Are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spread homelessne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ion of shantytowns (Hoovervil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ging, soup kitchens, bread 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truction of fami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ding the rails” &gt; 2 million 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racial t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tition for employ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mpacts in Rural Are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ge numbers of farm foreclosures (over 400,000 between 1929-193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production destroys s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 drought creates ‘Dust Bowl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grant fami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rmers move West for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The Response to the Economic Collaps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14998" t="5999" r="14998" b="10799"/>
          <a:stretch/>
        </p:blipFill>
        <p:spPr>
          <a:xfrm>
            <a:off x="304920" y="106200"/>
            <a:ext cx="853416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would you tell those kids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79320" y="3110040"/>
            <a:ext cx="3813480" cy="1857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5080" y="2135160"/>
            <a:ext cx="3813120" cy="1671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645080" y="4389480"/>
            <a:ext cx="381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posed Solu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cNary-Haugen Bill – Price supports for key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ample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.S. government would buy surplus crops (wheat, corn, etc.) at high pr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n the U.S. government would sell the crops at market prices (lower pric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fference (loss) would be covered with a tax on domestic food 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Proposed Solu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wley-Smoot Tariff – highest protective tariff in U.S. 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everything worse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ident Hoover proposed delay in WWI debts and German repa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late – Europe goes ‘off’ gold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esident Hoover’s Reac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lack of confidence in the economic future…..is foolish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ain optimistic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gged individualism – succeed through ef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government involvement in econo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deral building projects – Boulder D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deral Farm Board – help raise farm pr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nstruction Finance Corp – loan money to banks, industries, etc. (up to $2 b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Bonus Arm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I veterans scheduled to receive a ‘bonus’ in 1945 (about $500 ea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,000 march to Washington in 193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WANT OUR BONUS NOW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ed a shantytown outside of Washing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over orders them to leave (most obe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0 stay and are removed by US Army with force (gas and bulle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 is shocke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79320" y="673200"/>
            <a:ext cx="777888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reat Depression Pictur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pictures impacted you mo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pictures impacted you lea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ranklin Delano Roosevel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ed President 1932 (Democra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ised “A New Deal for the American Peop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goal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ief for the nee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nomic re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ncial 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radio broadcasts to explain goals to the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inancial Refor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-Steagall Banking Act of 1933 – provide federal insurance for individual accounts (FD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deral Securities Act requires compan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complete factual financial information about the comp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d rules for ‘insider’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conomic Refor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ricultural Adjustment Act – raise prices by lowering 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Industrial Recovery Act – promote fair business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 competitive pr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work standards for hours and child lab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workers with the right to unionize and conduct collective barg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Labor Relations Act (Wagner Act) – protects workers from unfair labor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lief for the Need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vilian Conservation Corp (CCC) provided jobs for young men building roads, parks, and planting tr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Works Administration (PWA) provided money to the states for school and public building con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vil Works Administration (CWA) provided construction and teaching jo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s Progress Administration (WPA) – created jobs for 8 million people in everything from construction to mu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ssential Question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aused the most severe economic crisis in American Histo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ad Chapter 30 Section 1 &amp; 2 to find three parallels between the game and histo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Relief for the Need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deral Housing Administration – government loans for home mortga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Security Act provi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irement insurance – supplemental insurance for retirees 65 or ol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mployment comp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d to families with children and the dis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81080" y="228600"/>
            <a:ext cx="5867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3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ill Sans"/>
              </a:rPr>
              <a:t>The WPA “Dollar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81080" y="838080"/>
            <a:ext cx="5430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713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5010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>
            <a:lum contrast="6000"/>
          </a:blip>
          <a:srcRect l="1819" t="11882" r="909" b="11189"/>
          <a:stretch/>
        </p:blipFill>
        <p:spPr>
          <a:xfrm>
            <a:off x="1143000" y="1447920"/>
            <a:ext cx="7162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>
            <a:lum contrast="6000"/>
          </a:blip>
          <a:srcRect l="2707" t="1819" r="2707" b="1819"/>
          <a:stretch/>
        </p:blipFill>
        <p:spPr>
          <a:xfrm>
            <a:off x="2819520" y="304920"/>
            <a:ext cx="4003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>
            <a:lum contrast="6000"/>
          </a:blip>
          <a:srcRect l="4052" t="3485" r="5353" b="0"/>
          <a:stretch/>
        </p:blipFill>
        <p:spPr>
          <a:xfrm>
            <a:off x="2438280" y="304920"/>
            <a:ext cx="5105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9358" t="4709" r="8380" b="4709"/>
          <a:stretch/>
        </p:blipFill>
        <p:spPr>
          <a:xfrm>
            <a:off x="2666880" y="380880"/>
            <a:ext cx="4854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>
            <a:lum contrast="6000"/>
          </a:blip>
          <a:srcRect l="10490" t="9282" r="5516" b="6846"/>
          <a:stretch/>
        </p:blipFill>
        <p:spPr>
          <a:xfrm>
            <a:off x="2514600" y="457200"/>
            <a:ext cx="4719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contrast="6000"/>
          </a:blip>
          <a:srcRect l="14324" t="5723" r="14324" b="5723"/>
          <a:stretch/>
        </p:blipFill>
        <p:spPr>
          <a:xfrm>
            <a:off x="2743200" y="228600"/>
            <a:ext cx="4141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ding Not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Section 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wo causes and two effects for overproduction and underconsum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Section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and explain two actions the federal government took that made the Depression w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743200" y="304920"/>
            <a:ext cx="40514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14762" t="7028" r="14726" b="4423"/>
          <a:stretch/>
        </p:blipFill>
        <p:spPr>
          <a:xfrm>
            <a:off x="2666880" y="380880"/>
            <a:ext cx="3992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95480" y="304920"/>
            <a:ext cx="40021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95480" y="609480"/>
            <a:ext cx="374184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981080" y="441360"/>
            <a:ext cx="6705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3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ill Sans"/>
              </a:rPr>
              <a:t>WPA Bookbin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33720" y="1600200"/>
            <a:ext cx="54864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99888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pponents to the New De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reme Court Rul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RA – unconstitu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AA – unconstitu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DR tries to “pack” the co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erican Liberty Leag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 should respect the rights of individuals and property (especially rich individuals!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vil Rights – No legislation to limit discrimination or create equality for African-Americans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mpacts of the New De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cit spending – spending more money on programs than the government receives in reven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anding government’s role in the econ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ion of workers’ r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Labor Relations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Impact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king and Finance 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pro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nessee Valley Authority – built dams to generate electricity and prevent flo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04920" y="152280"/>
          <a:ext cx="85341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280"/>
                    <a:ext cx="85341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eculative Bubb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Section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a speculative bub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examples of speculative bubbl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these bubbles affect yo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d of the Depression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the New Deal programs relieved the nation’s suffering and provided hope for the American people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ssive spending for equipment and supplies for WWII truly ended the Great Depression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523880" y="152280"/>
          <a:ext cx="647712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280"/>
                    <a:ext cx="64771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ssential Vocabul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eat Depress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: the economic crisis and period of low business activity in the U.S. and other countries, roughly beginning with the stock-market crash in October, 1929, and continuing through most of the 193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ing your own words create a new defini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a visual representation of the Great Depre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uses of a Sick Econom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.S.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line in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eign Compe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Dem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ources of energy threaten coal indu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dated machin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line in Home Constru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acts all associated busin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Cau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ricultural Cri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line in demand for farm g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lling pr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ing farm foreclo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y consumer cred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ing debt creates reduced consumer spe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ven distribution of in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goods than consu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Stock Mark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sto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vidual ownership of a portion (share) of a company that is publicly traded (bought and sol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you make mone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y low and sell high (difference = prof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y and hold (company value increases over ti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the risk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insurance or guarantees of retu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The Stock Market Crash – The Final Straw!!!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rule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ulation – buying and selling with the intent of making quick, large pro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ying on margin – buying a stock with a small down payment and borrowing the rest (up to 9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any problems??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sh – 10/29/29 (16 million shares tra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id-November investors lost $30 Bil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21:40:00Z</dcterms:created>
  <dc:creator> </dc:creator>
  <dc:description/>
  <dc:language>en-US</dc:language>
  <cp:lastModifiedBy> </cp:lastModifiedBy>
  <dcterms:modified xsi:type="dcterms:W3CDTF">2008-02-09T21:52:46Z</dcterms:modified>
  <cp:revision>18</cp:revision>
  <dc:subject/>
  <dc:title>The Great Depression Begins</dc:title>
</cp:coreProperties>
</file>